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F4D2EBF-E169-4889-8161-3ED9CF539A5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2E166084-F8C8-4712-9082-5D8E7043B29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EC340FD5-F6A3-457C-9599-D87145468BC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4AF58C85-EFF8-4C97-A2A7-C8E683FFBE7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2C305DBD-2E85-4AC6-9975-16A7993FC18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D7FB3F-4D6A-46B8-B6B5-9BC4FA29705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ABBA62A1-0083-438B-861E-255226F28F1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75786A09-80F9-4902-9918-32E67A883AC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E4C82913-DB55-47B6-9FA3-01672A3A577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DEF4F3A-4E31-4D9D-A129-37628973DBF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34D7F05-BC1D-4471-B8F3-EC941C7C66C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A578068E-61B9-4A95-A0C4-7C07DEA7501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7E6992-5FF8-4916-9695-E0C86BA7E73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64B7E33-8DFA-4405-8FC8-2629B84CD5EE}"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AC448D2-FFF5-4CF9-8C3D-1AF166789FC9}"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6BBEA0A-AF47-4AE5-A294-39DF7E1099AE}"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8ED2F4A-8889-4035-B2D9-925382FD308B}"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6581EB-2C3D-4379-BD63-DFA964343D36}"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EB5778-00B6-405E-BA2C-860F691454E2}"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56289C4-178D-4FDA-89E4-46D784CB95F8}"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25AB18-4E90-47C0-A39B-A76481EBC42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0ADF2E-5CD1-40C4-A106-A31F87AAAB0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13A114D-EB88-44F2-A615-BC93DB4EC05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517C3E-E5F6-40B8-A739-FB97DB1FC68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A327696-3CEC-453A-9964-D06846A4E64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BCF4A63-8624-4E55-8E86-48616CC4A96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9F8CA9D-4844-414B-AF6F-976309FCEE2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BBA7FC-774E-432B-86F5-A5786C193F8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F2D7700-E8DD-432A-920D-4AF4F8BB265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52D77F2-0ABD-483A-8E83-7CC87D79BB5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3895E8-D6B8-4191-97CD-463B395EA68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0442C7-03A2-4A40-8DF1-0C8C9FE4589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BA104A-5270-4C08-BF9A-7A76CF3A531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337282-D947-4E09-9FA7-AA114B749CE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42FD954-3705-41F2-A568-BDD0BE4E510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4A7185A-3FFC-4A4C-97F9-89FF7F734F7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D8C88EB-F7FD-4B3D-8CBD-914B9A681CD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15E6AE-41BC-4F71-AECC-37A0A10787C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BCD7508-6EBF-4173-955C-63A9F27CC31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A450256-BD98-4D30-B51B-15FD556653F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F8EDD4-C42D-4AB6-9BF0-594B8D2D7FA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84FF3C8-9B65-41BC-ADDF-92FD73EE595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7D086A-61EC-480B-8F1F-3D9F01D9559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2AA1EC9-2A10-40ED-985A-1D5C8E0FFE4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FAC886D-C3D6-4D37-ADC4-65D81F4787D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0F804A4-2243-488F-8EAB-05267999CCE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E20D6D-3708-42EB-AF63-0C92D5079EC0}"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5AF4634-2294-4E4C-9348-981F06FC968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EDEA0A-E67F-4009-9F4E-290B7453C27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531364-8FE2-4AB0-8B8E-E9305980368A}"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A3FCF03B-E048-45A7-8225-46D4992ADB17}"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B1ECB1-2788-45DE-B5A6-1EE0F6F8383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85D287-6EB1-4BB8-94B8-B9818281535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8884DE-C104-468E-8F6B-3200E2FF0CC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73A3FE-2AE8-43D1-B2D0-AA81A4B01D3A}"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D807000-B527-4914-85C8-D632E2CC978A}"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603852-869B-4438-9274-FF77B9EA1E82}"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070851-2697-448F-B0CC-143F198701FD}"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8E847EB-1969-4A33-8F2C-21D5B567028C}"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7C625F-C55A-4869-AE89-D8CBE9C77C18}"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AE847714-3FC3-4708-B895-DF64AADD9B70}"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8B5CEAD-4FAE-4195-9FFA-3227FC1990F7}"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EFECA88-6CCF-41B2-9E25-755544B66BB3}"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AB7A18-A222-4ECE-BEA1-43A9F99D8588}"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FECAA8-A852-44BC-8F27-E1A44B196FAC}"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DCD8D8F-426D-48CC-9FC1-34766DACF47B}"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DDED7D-9F36-48AD-8DF7-E683063D76D1}"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6E6237-34CF-4418-B405-7C9B56E879BD}"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C658E7A-9A0F-4B67-914A-F1FD6B05637C}"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DC28A4-F83E-4204-9CDF-965851BBB97D}"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ED554B-CD8C-4C10-A559-235BBC871D91}"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900E5679-802F-4546-AF64-B2CCFF13F874}"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2416EFB-7280-409F-AC21-138513C6A18F}"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81F761-F70C-4F5B-8C76-76EAC40C5D62}"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E4A1C7C-671B-47FB-8EBC-7FA279E0D6A5}"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A7D9E96-91B0-4DE7-81A8-E3CC8BD3B7DC}"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E2CA04D-CFBD-4BF0-A782-5C519783C53C}"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91A486-5AFA-4D92-8872-DD069FA53AC1}"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A6EA97-C995-4EA1-A67F-90C7BC46E0E8}"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101B259-F4F2-4477-A86A-1462D204F4E1}"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A3052AB-E299-4AF4-BB82-58C0AD0FC616}"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099708-B61E-46B5-A094-4EDE5574943A}"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D95B24-5C1F-45CE-9527-CE48069C3E6B}"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785E5BA-6673-48FA-BFB0-2111DD85FE0F}"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BC8B65-76AB-4151-815E-122262E8D12D}"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571D463-2374-4FA1-A90A-3C3E115D2D76}"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39DC5BC-5767-4B0A-9F13-A67585504730}"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D54A9D6-CDA9-4F31-9117-B32DBA45F921}"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F70CC39-B273-44EA-807F-CF7550EDA5E1}"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CAFA11-CAA7-4AC3-93BF-5132D25F3017}"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5431712-809F-4353-ADFC-A6F6DECD1811}"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9D5792-181A-4DF1-A196-97AC0E162224}"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3FF50B-BEA3-46EF-85E8-545741F179F2}"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AF1E36-6D50-481E-8774-A2BA4379EA3E}"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BC1804-09A9-41C8-AF27-D21CFC5C9425}"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B23AC3-6DB9-45B5-9EBC-A873AA5F5713}"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81AB45-22D9-48ED-A532-15B146750F63}"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E164B46-5C1C-4A91-AA2A-B44162045BFE}"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ED6A73-6425-4870-841E-537CD1CCC612}"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A07F0F-70EE-4775-AAE9-033FA6BB1FC5}"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76E5F11-7610-4D36-AE12-9837C1444C1A}"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5156C2-9BC7-4FC5-8F1D-A23D409ECC34}"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CA09667-0EC5-4529-B0DF-FCB1A13B85E0}"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E92C6A-1771-47C3-B1BE-EA5E935B76C7}"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01B4027-7BBF-411C-BC44-8F9B8B7E3E6A}"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9468F2-92BE-4141-9470-66B066A70B49}"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413E59-E6A4-4EB8-8CC8-F8872A6E39BC}"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339712E-1588-4852-85CA-4BBA9365FD0F}"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AFBEE6-1426-4B80-8A53-DD08776F90D7}"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5D964D7-8D2F-485A-B5B5-C86E9DB57CBD}"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CCEF95-62C8-4AF7-982B-9DB5343B2D3B}"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B574DF7-1783-475C-837C-206FC93D7B97}"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816A70F-DA23-4B91-90DF-99EF76BAE46B}"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7DD755E-12CC-4365-B7BA-F4D55A11E867}"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8ED45D0-4A90-4649-947D-13390848F54E}"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16E301-CE39-4C9A-A50C-0ECB2B7DA828}"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81C1A4D-41BC-4F21-A25C-03AAB247483A}"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