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8897"/>
        <c:axId val="63032914"/>
      </c:barChart>
      <c:catAx>
        <c:axId val="79538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2914"/>
        <c:crosses val="autoZero"/>
        <c:auto val="1"/>
        <c:lblAlgn val="ctr"/>
        <c:lblOffset val="100"/>
        <c:noMultiLvlLbl val="0"/>
      </c:catAx>
      <c:valAx>
        <c:axId val="63032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8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7DB-F22A-4F7B-863E-EBE9757E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A77-CCFA-486D-9EB1-4A16E49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44-AF76-4DE1-AFE1-61BB9DD7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68F-4D5D-48B5-BCC7-0092245C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9DB-4EF5-4C13-9B5E-2E8EC206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F61-1A72-499E-AD15-A4E03905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B2D-1CAA-4A0C-93C9-4C917CD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35C-A897-4099-A0D8-0B7F6E8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B72-B905-4492-AEC2-C0776DE2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627-997D-47CF-9B31-51139AB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EC3-97AB-45BB-B7CF-24EF8A3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38F-DC34-4818-941B-A4942D8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1DA9C-1138-46A8-8F92-61B2820409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