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59606"/>
        <c:axId val="18745024"/>
      </c:barChart>
      <c:catAx>
        <c:axId val="23959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45024"/>
        <c:crosses val="autoZero"/>
        <c:auto val="1"/>
        <c:lblAlgn val="ctr"/>
        <c:lblOffset val="100"/>
        <c:noMultiLvlLbl val="0"/>
      </c:catAx>
      <c:valAx>
        <c:axId val="18745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59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32D-F8A3-4882-A635-B3F30AD5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7F2-B6DA-488D-BF89-C6DC758C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E1D-6A18-4169-BEF8-0182E6EA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7C7-9F61-44D5-8FE9-270C4D19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9A8-010E-48A1-8078-40FB6692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DB3-5B39-420A-AA66-D381E325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122-A1DC-4D6C-A830-06F46768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4A5-55A7-4C37-8352-5E168CC5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907-F438-49B3-890B-6C91B252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592-2409-41DE-9A2B-1EDAA00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199-1802-4D4B-9EF5-0E360E5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711-E8CA-444B-B1C0-3785B50F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7AEA6-4157-439A-94C0-3DEA71800C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