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77198"/>
        <c:axId val="2119584"/>
      </c:barChart>
      <c:catAx>
        <c:axId val="85877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9584"/>
        <c:crosses val="autoZero"/>
        <c:auto val="1"/>
        <c:lblAlgn val="ctr"/>
        <c:lblOffset val="100"/>
        <c:noMultiLvlLbl val="0"/>
      </c:catAx>
      <c:valAx>
        <c:axId val="2119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77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083-E3B5-4373-8B52-DE8D35EA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24A-0347-46DF-BE05-D6E8D8FA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BD0-B34F-41A9-AC14-3F731119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424-DFAF-4D73-BADC-19395D81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364-0264-4F8F-A42F-BD6BC1C2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57B-8416-468B-A151-3B43C674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BCC-4B24-40A4-A03A-37CC2394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846-8EBF-4D80-8680-7CB537E5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A5B-C12D-4AE9-A88C-61264971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504-657D-4496-8CFC-DD51056D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111-DA08-4A24-AD5D-36D90809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BEA-284E-443F-ABB4-7281B17B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7C7E1-D22E-45F4-821F-FCD3C2ACB7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