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21704"/>
        <c:axId val="83453419"/>
      </c:barChart>
      <c:catAx>
        <c:axId val="31021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53419"/>
        <c:crosses val="autoZero"/>
        <c:auto val="1"/>
        <c:lblAlgn val="ctr"/>
        <c:lblOffset val="100"/>
        <c:noMultiLvlLbl val="0"/>
      </c:catAx>
      <c:valAx>
        <c:axId val="834534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1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DA6-7D51-46C5-BF50-0DA9F1D7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35D-FEED-4A7D-8893-FC0F173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6355-43ED-4BB5-ACFF-071ADF91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F24-03C7-4E69-AAC3-24CAC9F3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62FC-9D1E-439B-9762-F00C5599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C90-F370-4205-86C5-23EDB827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209-1F6C-4BFA-820B-2897D062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B7C-EBAB-4F35-A6D1-A36C1C97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327D-79B1-4F08-B76D-6D332344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09BB-25F2-4718-9C92-F4FC4C9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296-C509-4A8F-BEA3-AD09871E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4BA-4552-4475-B756-96F047E5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C75A5-072D-4767-9838-959B186493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