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2384"/>
        <c:axId val="94235623"/>
      </c:barChart>
      <c:catAx>
        <c:axId val="9162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35623"/>
        <c:crosses val="autoZero"/>
        <c:auto val="1"/>
        <c:lblAlgn val="ctr"/>
        <c:lblOffset val="100"/>
        <c:noMultiLvlLbl val="0"/>
      </c:catAx>
      <c:valAx>
        <c:axId val="94235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2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0B7-5FED-49AC-B573-4E690587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277-26F6-4189-8ECF-0884DEFA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6EE-74EA-4425-9F7C-033356E5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EC2-F05B-4560-B24D-1D947DBE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D2B-FBC3-4CF8-983E-A429180E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F35-4BD4-4976-9476-2986D3B5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019-209E-4988-9A12-8C43DA8B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11B-39C4-45E8-AEA0-9B50B6AD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E79-623F-401D-9096-BFF5C3F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FDE-8FB8-4676-BCBD-6C85150A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E29-23F7-4D39-90CA-0F110C4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B73-E34B-498E-A982-B24137C3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42975-8883-475E-880E-8339CBB834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