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054881"/>
        <c:axId val="74808602"/>
      </c:barChart>
      <c:catAx>
        <c:axId val="69054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08602"/>
        <c:crosses val="autoZero"/>
        <c:auto val="1"/>
        <c:lblAlgn val="ctr"/>
        <c:lblOffset val="100"/>
        <c:noMultiLvlLbl val="0"/>
      </c:catAx>
      <c:valAx>
        <c:axId val="74808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54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865-7354-45FD-8BFE-D1889776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A7A-C554-4993-B017-01E3F4A1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B86-A99E-42E5-925B-AA96DB11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8F4-BA8D-4FA5-A209-9C0B6E32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6F6-9347-4410-8238-E946BD95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6F8-C888-4056-8A49-1EAC6EE5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581-8368-4CA0-902E-51A18BA9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CDE-C9C0-4423-B12E-BFE3DF99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E17-AB55-4B80-A7A1-EF1A0882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AEF-6FA4-4DDE-BC23-AF372CBC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1EC-53A5-4805-8F6A-1663E785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274-F8BB-4CA9-9C68-8C4C927C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A893D-716D-4FC6-87BB-E3D0761AC5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