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381759"/>
        <c:axId val="23672713"/>
      </c:barChart>
      <c:catAx>
        <c:axId val="643817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672713"/>
        <c:crosses val="autoZero"/>
        <c:auto val="1"/>
        <c:lblAlgn val="ctr"/>
        <c:lblOffset val="100"/>
        <c:noMultiLvlLbl val="0"/>
      </c:catAx>
      <c:valAx>
        <c:axId val="236727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3817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ADAF-4280-4AFD-85A0-3FCACDC6A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C058-F0C6-4BD8-A5C2-7329A82AE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D4BA-3D86-4184-87CD-C52DD4679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4C17-D97E-4838-95FB-34596444A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A001-9549-4076-BACA-1998000FF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EF74-163C-49D9-AA37-49CBD0D58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20CC-5998-4C82-A321-8793E75E8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6EE8-C3DA-44D7-99E3-62AFF851C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CDE3-A97A-4E22-AA14-825426230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E6A0-5435-4EC6-9E4C-5E1CF0F6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3E2C-E431-4550-B0BA-0E77C99C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24FA-83C7-4A6D-A79D-1A5ED2BF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693C7F-C378-4A99-8999-875DC8F24D6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