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21884"/>
        <c:axId val="11451538"/>
      </c:barChart>
      <c:catAx>
        <c:axId val="89521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1538"/>
        <c:crosses val="autoZero"/>
        <c:auto val="1"/>
        <c:lblAlgn val="ctr"/>
        <c:lblOffset val="100"/>
        <c:noMultiLvlLbl val="0"/>
      </c:catAx>
      <c:valAx>
        <c:axId val="11451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1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17B-F974-4DFA-98EF-F941713D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5B3-DD94-4593-8B25-48CD61A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71D-42E3-4A54-8B5D-4AE510CC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B3C-9657-47DB-8F39-3244602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06C-A90C-4807-9028-57F2975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A28-2742-458E-835E-A22023A3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4E0-29AF-4F58-818A-466534F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3BD-36C5-4941-BA41-93BA005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EDB-7DB7-4B47-BF95-1AF7E6F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1A1-D162-49F3-BA68-08EA517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88D-6A5C-4A9F-B5F8-5C0C336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C5C-9009-492F-9DC1-F4C66D7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953A-9BA6-41CA-AA99-B5BB780A1D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