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184608"/>
        <c:axId val="26566368"/>
      </c:barChart>
      <c:catAx>
        <c:axId val="141846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66368"/>
        <c:crosses val="autoZero"/>
        <c:auto val="1"/>
        <c:lblAlgn val="ctr"/>
        <c:lblOffset val="100"/>
        <c:noMultiLvlLbl val="0"/>
      </c:catAx>
      <c:valAx>
        <c:axId val="26566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846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1A8-9F47-447A-A780-68ED439BA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A2AD-DE62-48AA-A867-7D3EE52A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A24-A9F1-4067-AE04-84D94D21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5AC2-FE50-40EC-9ABD-9C0DC0B3F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23DF-3667-4654-B921-B778F544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1D1F-379C-41FE-B0A1-647753DE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533C-E166-434D-B65B-223DC8064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9AE3-AC02-4678-A04A-C19B3399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3617-A1B5-4548-97D8-0613B92D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0849-0A52-4F2E-B63F-BB1226272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BF9-B424-4700-BB8D-B5AA6B09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CE78-0C26-4975-B9A6-4445CFC2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99845-620A-4C4D-AB7F-61C1D35CAD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