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298274"/>
        <c:axId val="55354447"/>
      </c:barChart>
      <c:catAx>
        <c:axId val="52298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54447"/>
        <c:crosses val="autoZero"/>
        <c:auto val="1"/>
        <c:lblAlgn val="ctr"/>
        <c:lblOffset val="100"/>
        <c:noMultiLvlLbl val="0"/>
      </c:catAx>
      <c:valAx>
        <c:axId val="55354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98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F25-382E-46D6-A3D4-89E19832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0FA6-F7D7-4E3D-B8BB-FE9F1211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715-9689-4F78-86C0-04B82E1A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5268-8524-4B5C-89AB-7E0363EF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B4F-B753-46DD-B3CF-52183AE6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5FAE-3384-4895-85E0-E29C7D8E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676-E780-48F6-9E9B-A148E9EA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7F6-BB7C-4CE4-B645-DB4E99F7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596-8BD1-4631-AA7C-AD71670B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199-4E4D-4E0E-BDCA-76623E03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71C5-A7A8-4868-AB42-EA640B6C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785-598A-4CED-8674-780EB7C1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C8980-5EF7-46D1-B626-047659018A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