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163145"/>
        <c:axId val="75562597"/>
      </c:barChart>
      <c:catAx>
        <c:axId val="211631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62597"/>
        <c:crosses val="autoZero"/>
        <c:auto val="1"/>
        <c:lblAlgn val="ctr"/>
        <c:lblOffset val="100"/>
        <c:noMultiLvlLbl val="0"/>
      </c:catAx>
      <c:valAx>
        <c:axId val="755625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1631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993D-F59E-4053-B62A-1E13304D6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6B0-6BBD-4344-ADEC-FD68747A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217F-A115-4ABA-951C-78FEDD627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1803-6A0E-4AD9-A8B1-A45668DBA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DC4-D894-4F6F-96D1-885317E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7505-B5E8-41EB-85B1-3294A9C3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4B2A-93FE-48B2-87A4-697814FD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5EA-EFD4-46FA-A08F-47950809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F76-5108-49A1-92FA-674B9D9D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455C-C158-4E8A-9FDE-F9FF38B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780B-A461-4298-AE68-73CF9154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49F3-5185-4B4A-9ACB-7370488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EA884-5DB0-4C88-BFB1-C1FCE99FB2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