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95112"/>
        <c:axId val="92166948"/>
      </c:barChart>
      <c:catAx>
        <c:axId val="82995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66948"/>
        <c:crosses val="autoZero"/>
        <c:auto val="1"/>
        <c:lblAlgn val="ctr"/>
        <c:lblOffset val="100"/>
        <c:noMultiLvlLbl val="0"/>
      </c:catAx>
      <c:valAx>
        <c:axId val="92166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95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9DA-D292-4163-AA76-CF340B7C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618-473C-488A-BC99-F9F35878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EB4-F16E-4DA9-8944-A9D2F344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E56-7E50-4E0F-9BBE-F6AE0705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B0A-2E29-473F-9AB9-E6D624BA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C7A-44DA-4DFD-BC76-8BEF4BD6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1DF-AE21-44C6-BF2F-7929FC7D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C88-653C-43B0-A619-37958FC3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54D-31E5-46E9-AFE0-47FF86BC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27F-B4C2-43D1-B302-647C4F65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3B2-94D5-4E28-949A-585CDD99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28E-8AE8-4F42-81BA-C2B697B6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2A7CB-A11E-4158-A740-C5EF50F225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