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511637"/>
        <c:axId val="99678895"/>
      </c:barChart>
      <c:catAx>
        <c:axId val="77511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78895"/>
        <c:crosses val="autoZero"/>
        <c:auto val="1"/>
        <c:lblAlgn val="ctr"/>
        <c:lblOffset val="100"/>
        <c:noMultiLvlLbl val="0"/>
      </c:catAx>
      <c:valAx>
        <c:axId val="99678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11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E433-6852-4421-B588-5467C08F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876A-2344-4533-8F70-B8A599DE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81B-E8A8-48A7-8D30-7BA09088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2EE6-89AD-4440-BD14-6FD933C7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932-5955-4D54-A67C-5AA171C9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AD10-947E-45A7-984D-4EB484F6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798A-C8CD-496C-8CC5-5465A44F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7CB6-D00F-40C7-8881-E12A79EC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313D-3054-4B09-A0E9-44E11C36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D59-E2E6-4A56-ABDB-EB0E74A5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A36-53C3-47C7-8744-8F961CF5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78B-8FEB-4821-A598-0D928BFA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09B16-F023-48E5-9029-4D644B028F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