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203110"/>
        <c:axId val="91129763"/>
      </c:barChart>
      <c:catAx>
        <c:axId val="842031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129763"/>
        <c:crosses val="autoZero"/>
        <c:auto val="1"/>
        <c:lblAlgn val="ctr"/>
        <c:lblOffset val="100"/>
        <c:noMultiLvlLbl val="0"/>
      </c:catAx>
      <c:valAx>
        <c:axId val="911297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2031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54B2-243F-449B-B518-8BD66ABCD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04D2-BAE9-42E5-BE01-87CCEA5B7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824-A5B4-49B3-8DD7-2143A389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27A8-5BBF-400B-91B5-54978082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AF72-D48D-48F2-BCAE-6DD80799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721F-C633-4B17-80C9-E46A275E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98F-852C-4592-9BD0-4B57CBE3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A0A4-8F10-4E51-858B-1172C2BE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CCDA-6729-4ABF-A5BA-1AC386DA3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E44A-6EAD-4C8D-9342-368B4AC5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0D1-39BC-4F37-9E02-121B1CFD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4DB6-A861-4403-8642-54F4215FF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7E101-E714-4401-B157-92D7AC6612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