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62915"/>
        <c:axId val="95414002"/>
      </c:barChart>
      <c:catAx>
        <c:axId val="30162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14002"/>
        <c:crosses val="autoZero"/>
        <c:auto val="1"/>
        <c:lblAlgn val="ctr"/>
        <c:lblOffset val="100"/>
        <c:noMultiLvlLbl val="0"/>
      </c:catAx>
      <c:valAx>
        <c:axId val="95414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62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18D-4AAE-4B82-BB0F-25DFE780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655-49FE-4415-A0AF-ECF378B7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732-DDCE-4E82-BB09-D9E89831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FDA-4FF7-4720-B209-9BA889AA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66F-9086-4E30-AD01-DBFB3B6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79B-0152-46FB-BE41-23188C5E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AF8-7279-4ADD-B157-DAEDB24A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A81-85D4-48F6-906B-37145DCA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E37-EB8F-42A4-9D04-F8822B26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AD7-4FD5-4E62-8661-9B83FDC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762-C91B-4327-AC73-0EE47918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3A2-8590-4E43-A473-C7FF87A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572E5-376E-4651-88C3-EB6EBCEF8C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