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322763"/>
        <c:axId val="12146226"/>
      </c:barChart>
      <c:catAx>
        <c:axId val="863227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46226"/>
        <c:crosses val="autoZero"/>
        <c:auto val="1"/>
        <c:lblAlgn val="ctr"/>
        <c:lblOffset val="100"/>
        <c:noMultiLvlLbl val="0"/>
      </c:catAx>
      <c:valAx>
        <c:axId val="121462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3227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2EB9-3006-47AA-ABC1-873FC7599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5C1-79B3-46C3-9715-545D08AA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31FA-FCA5-442B-A1A6-36280837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909D-23F5-40C7-86A1-43B4B2527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6CD5-C750-4C97-9640-FEA62CFA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6BCC-3A41-46E0-9CCC-1F4749B0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309-93CC-4CD4-8F17-83A62FE2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279C-85A7-4A09-91AF-C3369D800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E163-FD94-4D23-998E-CB15B65A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730F-D2F7-4B61-A754-90CDD4EC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286-A721-42BE-8E49-AAEE2CFE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77D6-9706-4BCB-82B5-71503B70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6786F-A286-46B7-968A-0C9214ED8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