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60201"/>
        <c:axId val="29220671"/>
      </c:barChart>
      <c:catAx>
        <c:axId val="74260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0671"/>
        <c:crosses val="autoZero"/>
        <c:auto val="1"/>
        <c:lblAlgn val="ctr"/>
        <c:lblOffset val="100"/>
        <c:noMultiLvlLbl val="0"/>
      </c:catAx>
      <c:valAx>
        <c:axId val="29220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0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FB6-526B-4F88-AFD2-E2343D1B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D69-5BBF-4774-B390-DE552C4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119-3E20-4DB6-A7D4-62A22558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F3E-0A17-4E28-B45F-852F838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706-C817-409A-81B4-535F2EF9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4DD-64F8-4DB3-B929-6299ABD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006-B063-4663-BDF7-7E9CBCD5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352-22A3-4494-B9A1-BCE24F2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4E2-87F1-48A8-B993-1F08949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AB0-FE3A-484F-B233-477C88B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B15-2445-4C02-9F50-BEF8083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BF6-2986-4C03-AAFE-2B8506D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C274A-4AAB-427A-90D8-1FF369BF1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