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40156"/>
        <c:axId val="65400283"/>
      </c:barChart>
      <c:catAx>
        <c:axId val="86940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00283"/>
        <c:crosses val="autoZero"/>
        <c:auto val="1"/>
        <c:lblAlgn val="ctr"/>
        <c:lblOffset val="100"/>
        <c:noMultiLvlLbl val="0"/>
      </c:catAx>
      <c:valAx>
        <c:axId val="65400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40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316-7807-4F80-966C-B9780788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FF4-5DF6-4ABF-A750-66A91423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B45-F6B5-4C11-9D1C-6678302D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47C-A2E5-47F4-9C48-294A3AC8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BA5-A78F-41FF-BBE2-E8146940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26A-BCB4-485B-9071-9A8DDA21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442-E0C0-433A-9499-830779EC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A89-6831-45FC-9D53-31708464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3D9-6C66-4F44-BEEB-C402E4BA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C78-0609-457E-B257-397D3E79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CB2-EE7E-43AC-9C1A-7489A2BA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BA9-99E1-40F4-94A2-CEA20D13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8C175-3662-492F-92FA-F55F14681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