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56360"/>
        <c:axId val="80253447"/>
      </c:barChart>
      <c:catAx>
        <c:axId val="93656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3447"/>
        <c:crosses val="autoZero"/>
        <c:auto val="1"/>
        <c:lblAlgn val="ctr"/>
        <c:lblOffset val="100"/>
        <c:noMultiLvlLbl val="0"/>
      </c:catAx>
      <c:valAx>
        <c:axId val="80253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6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2DF-DA6E-450B-99CE-03B4CFD3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1B3-808E-4F3D-AC71-005DA812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334-808F-4407-B784-D465B312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D68-D74C-49D1-B784-0F7105BD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324-CDA3-46A9-AD36-1F3CEEC4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3E9-803E-4F68-9A8C-255CE61D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398-FCD1-4BD9-BBCA-85E9DAB2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E37-7463-4B4B-9B93-2D9166A0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4E6-1AD1-43E5-8CC9-E6D2592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DFF-DDCF-4226-8EAE-84347F8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8CA-C61A-4507-8E87-2208119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227-9500-47A2-9A81-9D26E04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DAC1C-44A2-4AC6-8E2C-9CD617C270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