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06528"/>
        <c:axId val="39825506"/>
      </c:barChart>
      <c:catAx>
        <c:axId val="64065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825506"/>
        <c:crosses val="autoZero"/>
        <c:auto val="1"/>
        <c:lblAlgn val="ctr"/>
        <c:lblOffset val="100"/>
        <c:noMultiLvlLbl val="0"/>
      </c:catAx>
      <c:valAx>
        <c:axId val="398255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065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724A-ACC6-4F81-9127-C8FA3565D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9C18-7E21-463A-938A-B5FB88272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E64D-CC00-4E95-B028-9F3211DDF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5B52-6BF7-4DC0-BDDA-F42C3263B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FE35-0F7D-4C34-90F5-33F0D57A6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7262-C661-4791-91EB-6151ECE07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13CE-CB9A-4CB2-8ECF-655573CA8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77F6-057D-44BF-A747-5053DEE5D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E3AF-8D38-4A09-92B3-5554B4E59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8354-84FD-4591-A960-7532CAE2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FF7F-FB9C-4C9D-958F-407A9EB5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91C1-4DC8-4310-93C3-4A792EEF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B36B6F-22E3-43C6-B528-374A12F03C9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