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16797"/>
        <c:axId val="49463561"/>
      </c:barChart>
      <c:catAx>
        <c:axId val="60216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63561"/>
        <c:crosses val="autoZero"/>
        <c:auto val="1"/>
        <c:lblAlgn val="ctr"/>
        <c:lblOffset val="100"/>
        <c:noMultiLvlLbl val="0"/>
      </c:catAx>
      <c:valAx>
        <c:axId val="49463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16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9A8-0154-4D68-B717-E3F1FC70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BBD-4C1E-4DF4-95E6-BEF89CD1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EFC-78FE-4AC2-803A-DE6C0BD5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CEA-7482-4333-A938-B02A5909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FE4-C5EA-4A8D-A892-9331C72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102-2B06-4FFD-92D9-3B558D6F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027-1CC4-4E79-A275-BFCB810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8AA-F3E4-49EE-BB8F-13839D33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9CC-A8D8-4192-8185-D46F5593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247-CE3B-4CAE-855B-4FCF0E7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ECC-D998-4C83-9328-A18202E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173-771F-4460-B79E-33AFDD9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74A7A-3851-4F6E-A617-B1272F262F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