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63818"/>
        <c:axId val="48917940"/>
      </c:barChart>
      <c:catAx>
        <c:axId val="82763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17940"/>
        <c:crosses val="autoZero"/>
        <c:auto val="1"/>
        <c:lblAlgn val="ctr"/>
        <c:lblOffset val="100"/>
        <c:noMultiLvlLbl val="0"/>
      </c:catAx>
      <c:valAx>
        <c:axId val="489179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63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E45F-FA7F-45CD-A1AD-C799AD14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40B4-D2C6-4FC5-A884-79A59D4D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E9FF-11D4-407A-9EBF-4EA7A068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5307-DDF7-484B-9327-0F9DE226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7D7-12F3-474C-BE58-DA3A52A4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753-B7C7-4251-845F-99292A5F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FB4-F43A-4D84-AFCC-20BF4CB0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9F0-9C72-4ABC-9C76-E4B6D68B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DD0-960F-4322-AD0B-FABF455F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2D3-3305-4B36-BA2B-75B70ED0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1F7A-1851-4284-9850-6BEA310F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8FA6-E877-41A9-9417-EB93ED17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D8CCD-5F7A-4582-BF5E-C219EEF6E5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