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96144"/>
        <c:axId val="17520155"/>
      </c:barChart>
      <c:catAx>
        <c:axId val="52496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20155"/>
        <c:crosses val="autoZero"/>
        <c:auto val="1"/>
        <c:lblAlgn val="ctr"/>
        <c:lblOffset val="100"/>
        <c:noMultiLvlLbl val="0"/>
      </c:catAx>
      <c:valAx>
        <c:axId val="17520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96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07D-365F-4411-9315-7BC4CE82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5C4-BF67-4566-B42D-94AA53A2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059-8C77-4EE5-B422-36B23EC1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47B-9F96-4C8F-AD78-22B64355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892-7011-457A-878F-560D7961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14E-A0C5-4B28-AD1C-0223A497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6EF-315D-4A79-A7D3-D6390C8B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787-E29B-43E0-B099-BC5B8EFB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ED7-5C52-4C8B-A218-6E00F13E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B4B-FC23-4144-9101-16C5B211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1A0-B5EE-40D3-9C18-C1B4F5A4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B23-8C8E-481E-B41A-474DD008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1BBAC-C5E7-4459-BF50-5033584A51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