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02845"/>
        <c:axId val="96698783"/>
      </c:barChart>
      <c:catAx>
        <c:axId val="435028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98783"/>
        <c:crosses val="autoZero"/>
        <c:auto val="1"/>
        <c:lblAlgn val="ctr"/>
        <c:lblOffset val="100"/>
        <c:noMultiLvlLbl val="0"/>
      </c:catAx>
      <c:valAx>
        <c:axId val="96698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028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49C-8ADB-46A8-923D-BD5788FB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6D9-605B-4ECB-92E9-921E50CE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EC02-6518-4659-9C9B-E42D6793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427-1C8D-4462-9AE7-A49733C1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D130-AF85-4892-874D-5D9A43A6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3AB3-9DA6-444C-89F5-BF37EBBF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0B33-91AA-4A97-9F27-7B9C02CA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63FB-ABA0-4BFE-90E3-74505734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138-2BF6-4DC8-B27E-519A0E62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E33C-8D67-4EA7-BC75-519AF8EB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E4CB-D1E6-4230-BA2A-FEEFBAD1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4F1-810F-4CF8-B0B6-7AE6DCFD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A05F3-4EDB-4BC7-886B-B1E16AC130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