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9893"/>
        <c:axId val="52854040"/>
      </c:barChart>
      <c:catAx>
        <c:axId val="3859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4040"/>
        <c:crosses val="autoZero"/>
        <c:auto val="1"/>
        <c:lblAlgn val="ctr"/>
        <c:lblOffset val="100"/>
        <c:noMultiLvlLbl val="0"/>
      </c:catAx>
      <c:valAx>
        <c:axId val="52854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9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0FE-2414-47E3-BF39-7C31DDA1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8B7-6B59-4C05-910A-9982EE32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41D-BFC6-4D24-BE4C-6025C77F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672-900D-4C0A-AA7F-E4F3B9F5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91F-CD0E-41F3-A379-F391986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C06-B392-4AF8-89B4-6B08080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5E2-7075-42F7-8D6C-953E915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961-C1FD-4BC5-85EF-0E4ED7A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607-1789-4AC6-B273-0852864F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36E-AE69-4C31-BD64-C18987A2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171-3390-4C3B-9B8A-6086FFD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68C-7562-4842-89DE-F120E37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7B2FA-9484-4F12-A08B-B3103C3D6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