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9806174"/>
        <c:axId val="22380710"/>
      </c:barChart>
      <c:catAx>
        <c:axId val="5980617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380710"/>
        <c:crosses val="autoZero"/>
        <c:auto val="1"/>
        <c:lblAlgn val="ctr"/>
        <c:lblOffset val="100"/>
        <c:noMultiLvlLbl val="0"/>
      </c:catAx>
      <c:valAx>
        <c:axId val="2238071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80617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084E-569C-444F-893F-128979EA6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0C8E-2342-44CE-BD96-9AFBB06EB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2AC1-64A0-4848-BAD4-B7D7A4CB2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D8FE-164F-41D7-86F4-9791DFE63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FBF2-30D9-4F83-B430-142C93642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CC23-B5B0-445B-BB90-FFD1A4FD0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CA6A-0329-45B7-AFF6-B6FABC1FF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E716-DDB5-4438-9452-D37BB9778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30BD-843E-4D52-975E-66D3C7044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D464-9713-4DDA-8E19-6D5A730BC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A23E-529D-4901-86D4-BD874CBD0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EC69-A6F6-4551-A972-7D1CCF49C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68F494-E4CA-42B0-997E-51C33AF54F9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