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22564"/>
        <c:axId val="92712628"/>
      </c:barChart>
      <c:catAx>
        <c:axId val="88522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12628"/>
        <c:crosses val="autoZero"/>
        <c:auto val="1"/>
        <c:lblAlgn val="ctr"/>
        <c:lblOffset val="100"/>
        <c:noMultiLvlLbl val="0"/>
      </c:catAx>
      <c:valAx>
        <c:axId val="92712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22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E93-024B-447F-A16D-1B44D967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769-0BC5-49C2-A9E0-8C5CE3E7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EF8-BCA5-4BEF-9741-C9A2DE53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F18-0CEA-44ED-BDD5-61934593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5BC-820F-4B82-B26A-9CA70BE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EB5-C02F-4FC9-8977-14C37C32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A17-FD9B-4104-9DC9-61223B3B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E3B-AD3A-4252-A21C-F1A7E0D3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C1C-7309-45CF-8054-4013B2D7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018-5E2D-4F8B-9960-E4095C1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9CB-9A0C-4CB3-BA47-9A78E7D6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FB2-10F0-40E1-A4C0-5BF2A2D9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B371B-901E-43FE-9101-2319CC63D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