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75792"/>
        <c:axId val="48342095"/>
      </c:barChart>
      <c:catAx>
        <c:axId val="66475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42095"/>
        <c:crosses val="autoZero"/>
        <c:auto val="1"/>
        <c:lblAlgn val="ctr"/>
        <c:lblOffset val="100"/>
        <c:noMultiLvlLbl val="0"/>
      </c:catAx>
      <c:valAx>
        <c:axId val="48342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75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9C8-0DE7-4A79-8ED8-833CB013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47C-A80D-4F50-9E5C-17855A0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315-A937-491B-BB53-25DCC312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BB1-8123-443B-89B0-93C0B60A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B8C-901E-4BE9-916F-EFCF4C2F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4F9-9B84-4F24-8552-BDAE46C8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57B-5260-4FD9-AAA1-F549C63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7FB-698C-4860-84EA-C6FD68F5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A41-FDBC-4A5D-9558-C90876D4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A19-5528-4C4E-8CF3-7293702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4A1-7932-48A4-BE44-6B4DC8A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F0F-1F99-41ED-BE18-E14E5E2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FFF05-44E8-4338-90D7-F29C88F506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