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25753"/>
        <c:axId val="47451553"/>
      </c:barChart>
      <c:catAx>
        <c:axId val="75425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51553"/>
        <c:crosses val="autoZero"/>
        <c:auto val="1"/>
        <c:lblAlgn val="ctr"/>
        <c:lblOffset val="100"/>
        <c:noMultiLvlLbl val="0"/>
      </c:catAx>
      <c:valAx>
        <c:axId val="474515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25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06F0-620C-4030-A0AA-B9871BEF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040-9F95-4682-A20E-0CD63AA6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B58-BC6D-488B-830B-83240837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400-042F-4975-9960-8B1F7DE0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BE6E-4C4D-46FE-8232-594DF096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004-267B-46FF-B04D-3BFA379F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451-19B8-4077-88FA-9A881576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7785-3A59-4383-B25B-CCD589BE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01A-B3EC-499A-81C1-D2D5A014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A63A-B1A7-41DB-AC8E-5711C4D4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817-1E5C-450D-8FA4-46A65F73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29BE-177C-49D2-B137-D3B05661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B33FE-46A4-44A7-814E-90026129C8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