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5297"/>
        <c:axId val="13627117"/>
      </c:barChart>
      <c:catAx>
        <c:axId val="5495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27117"/>
        <c:crosses val="autoZero"/>
        <c:auto val="1"/>
        <c:lblAlgn val="ctr"/>
        <c:lblOffset val="100"/>
        <c:noMultiLvlLbl val="0"/>
      </c:catAx>
      <c:valAx>
        <c:axId val="13627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5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25C-CE08-42B9-9AF7-FEA3353F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D9E-9353-40F7-B459-41821FC8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A61-0D88-4FBB-A812-6C613755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DBE-0F9F-4679-A769-188289CC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B52-4337-4BAF-9844-C6CDB84C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052-EC13-40AC-B359-0FD6D89F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C81-2DA4-4017-AFEA-6D9FFC6D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BE0-9824-4DCC-9382-CBE0130B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2AA-177D-4D75-A7CB-43E8A4A5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22E-C8E8-4F60-AE75-0435A139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8C0-081F-499C-BA7B-30E00987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F48-1415-43BA-ACA8-3A72D2F8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931BC-3497-4AEB-AD91-FD3A358471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