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77689"/>
        <c:axId val="98656024"/>
      </c:barChart>
      <c:catAx>
        <c:axId val="673776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56024"/>
        <c:crosses val="autoZero"/>
        <c:auto val="1"/>
        <c:lblAlgn val="ctr"/>
        <c:lblOffset val="100"/>
        <c:noMultiLvlLbl val="0"/>
      </c:catAx>
      <c:valAx>
        <c:axId val="98656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776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58B3-872A-45B7-8AFE-CF7D476D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C7DA-9749-43F2-9189-43DCB79E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CF0D-1824-4206-A0B5-5B9BF5FF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E9A-D1D7-4D51-8AF7-E321808E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46B-213E-404D-857E-9C7548A5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5B86-CEEE-4ADD-9DEF-12C8EDB9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123-EA8F-48E1-82E7-52F9D2A0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2F5-3B39-40E3-8418-3C073247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05E8-F6AB-4D61-9102-ED7CB33B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9941-8CF7-4316-8D7A-911A36A6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A58-13ED-4AB8-BC31-EF126E1C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8CF-BC94-4A8D-9A79-5F1F0665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6A107-D00F-4D96-8805-240AA7B73F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