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05897"/>
        <c:axId val="79896802"/>
      </c:barChart>
      <c:catAx>
        <c:axId val="217058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96802"/>
        <c:crosses val="autoZero"/>
        <c:auto val="1"/>
        <c:lblAlgn val="ctr"/>
        <c:lblOffset val="100"/>
        <c:noMultiLvlLbl val="0"/>
      </c:catAx>
      <c:valAx>
        <c:axId val="79896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058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750-C355-40EE-85FD-196E9596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F41-35AF-400B-92CD-B8F1BBE6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0C09-53A1-4F6A-9745-C4ECABB5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8279-41A8-43BA-B401-6A0E3C0C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2823-68CE-4FD0-BDDB-059DA9D1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E1CC-D094-46DF-B534-00A78CA5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CF76-6031-41FD-8A6A-AF624D5E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98D3-1722-48E6-A1E6-719819BA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D010-C2F6-440E-9524-949748CD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563C-50A0-48E6-B8CC-B47B0B3A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D829-5412-4F69-9A7C-A969FD2F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0BAA-FA05-4C1E-BC77-283AC396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CF94A-63AE-4549-8FE9-758AE5170B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