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78558"/>
        <c:axId val="41678227"/>
      </c:barChart>
      <c:catAx>
        <c:axId val="24778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78227"/>
        <c:crosses val="autoZero"/>
        <c:auto val="1"/>
        <c:lblAlgn val="ctr"/>
        <c:lblOffset val="100"/>
        <c:noMultiLvlLbl val="0"/>
      </c:catAx>
      <c:valAx>
        <c:axId val="41678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78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947-E133-497C-AFAE-C8D5DD1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D8D-25AD-4EEB-B5F9-3BE35F8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D9A-2140-4238-A193-F153E91D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83B-13F1-495B-BF3B-8C06003F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E36-328F-4453-980C-D19D7E75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A23-3527-4072-932D-D729896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B27-0657-4CA6-8871-9F3FC52C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960-B45A-408B-B199-A550A4B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3C2-F67C-4F1D-BF70-9AD85EA8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3F5-9A5A-413D-A66D-F7F2E77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763-5EFD-472A-9671-3497F6E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007-E07E-4F6F-9BBD-B25AED70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42F60-670F-458E-AF69-C118F11BF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