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93937"/>
        <c:axId val="17903985"/>
      </c:barChart>
      <c:catAx>
        <c:axId val="18693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03985"/>
        <c:crosses val="autoZero"/>
        <c:auto val="1"/>
        <c:lblAlgn val="ctr"/>
        <c:lblOffset val="100"/>
        <c:noMultiLvlLbl val="0"/>
      </c:catAx>
      <c:valAx>
        <c:axId val="17903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93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E90-12E9-4005-AE81-5F90B46A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957-B669-45A9-BC54-D808E2FB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7BC-9A16-456C-BFFC-7BA420BA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89F-46EC-4871-BF37-3CCB75E2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6EF-D8CA-4814-A132-D9B087DE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ACC-57C5-4B95-9BE8-87386D90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031-04CD-4406-ACDE-6931BE4C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EE0-3543-41EE-86DE-63EC3C0F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953-FDDD-45DD-9FA0-2FE032E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E29-5F33-48E6-9371-23FD85C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C9E-3EF3-4151-93DA-2B181E85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8D6-AE03-4A08-AF84-C69BE8C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7F4DA-03E3-4290-B959-2C8C0D78FD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