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97545"/>
        <c:axId val="84340371"/>
      </c:barChart>
      <c:catAx>
        <c:axId val="64697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40371"/>
        <c:crosses val="autoZero"/>
        <c:auto val="1"/>
        <c:lblAlgn val="ctr"/>
        <c:lblOffset val="100"/>
        <c:noMultiLvlLbl val="0"/>
      </c:catAx>
      <c:valAx>
        <c:axId val="843403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97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3C7-BAD1-48EC-BB12-FE84DDC10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7F47-C77B-40E7-8B0A-8F630A9B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06E-EDE4-4EBC-8FDA-CBB84D998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7B6C-9889-477F-87E2-C51D18ADD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F66-2DCC-4C0D-BC59-1F3DD39D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E53-DA84-4E73-9F65-EFA0F59E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F1A-A5F6-45B2-BB1D-FFCDA527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289B-D15E-44CF-9762-8A157665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F0D-707C-4485-90B0-C8DB2547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C011-5732-4A8F-827F-E758D820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053-57B9-4F17-9A83-967B681C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4AC-4A25-41BC-AD29-1728C8B6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89E6B-EDEC-4086-8CF3-BA693CF40E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