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62501"/>
        <c:axId val="61809789"/>
      </c:barChart>
      <c:catAx>
        <c:axId val="52862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09789"/>
        <c:crosses val="autoZero"/>
        <c:auto val="1"/>
        <c:lblAlgn val="ctr"/>
        <c:lblOffset val="100"/>
        <c:noMultiLvlLbl val="0"/>
      </c:catAx>
      <c:valAx>
        <c:axId val="61809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62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BE9-D02C-4137-9171-F7C0F137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B38-09CB-432A-B517-29EC4D81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ACB-1C93-4A77-95FA-8A7162B4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E2F-7744-41DB-82C1-B7A22924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978-95C9-4DF9-B0F0-68DF1BBC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53C-CF6B-472D-B4B0-37800E6A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CEA-0561-4464-AD37-25C0F43F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83A-4C37-48C7-A82E-93C067AF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E7A-A060-491B-8A9B-6E4672E4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3C8-4688-4D22-AF41-1C875A78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1E7-627C-4595-97FA-AD12DFFE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A24-1D51-4644-973A-67E50603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000BB-BB34-45FC-8934-5CE19CC734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