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12130"/>
        <c:axId val="97925033"/>
      </c:barChart>
      <c:catAx>
        <c:axId val="58121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925033"/>
        <c:crosses val="autoZero"/>
        <c:auto val="1"/>
        <c:lblAlgn val="ctr"/>
        <c:lblOffset val="100"/>
        <c:noMultiLvlLbl val="0"/>
      </c:catAx>
      <c:valAx>
        <c:axId val="979250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121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F3CB-284A-4598-8BA1-C55701EAF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2574-D6E2-4EB4-9B13-0DD0ED15E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22A9-1C4B-49ED-BE8C-1B03D6198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104E-9142-42F9-AD69-BB9977A86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803C-4B1B-4C01-853E-4FE96926C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A244-5C07-4598-A41D-3D7312084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7BB3-BE00-47B4-AD02-4DDFA7F46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0268-C9AB-4CFB-97B5-D24F82EC9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DA72-48F4-4976-AF19-102172252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59E1-A7EB-45F2-9D64-38634CC3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C468-5FF7-4B80-8F1B-88F032D7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B5C7-297D-483E-89BE-A0DFDA43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ED8CA2-336E-451F-9851-5539568D1D3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