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40791"/>
        <c:axId val="51265498"/>
      </c:barChart>
      <c:catAx>
        <c:axId val="47140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65498"/>
        <c:crosses val="autoZero"/>
        <c:auto val="1"/>
        <c:lblAlgn val="ctr"/>
        <c:lblOffset val="100"/>
        <c:noMultiLvlLbl val="0"/>
      </c:catAx>
      <c:valAx>
        <c:axId val="51265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40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711-8ACC-42CF-9AEA-3B464CA9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6B8-CF32-4E06-8DE6-4CE1A00D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A1F-F631-467B-A9F9-D308CB06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852-2644-4156-9A38-F19D73F9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F7B-3904-4676-94BF-86B6EDFC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FE1-BF8B-4727-BEE5-3101202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2E2-2578-4CF1-B234-6A953818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D5F-29CA-496B-AC93-52CBE8D8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C9B-2CE4-4DE8-BC67-9F18BA6D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EAC-BB44-48C4-9F4B-4AC548A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F30-020C-41E8-818C-38CAEBE8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9A8-6EC5-4B46-A14B-E7722B8E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FED0C-04A8-4EDD-9349-3CDB8F7D56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