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70748"/>
        <c:axId val="48890687"/>
      </c:barChart>
      <c:catAx>
        <c:axId val="29270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90687"/>
        <c:crosses val="autoZero"/>
        <c:auto val="1"/>
        <c:lblAlgn val="ctr"/>
        <c:lblOffset val="100"/>
        <c:noMultiLvlLbl val="0"/>
      </c:catAx>
      <c:valAx>
        <c:axId val="48890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70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149-1414-4F92-80F3-87AC622A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7EA-E8B8-46E0-8437-53694B6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3E0-E4AC-4D53-BDB6-33257126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D3E-8B6D-4190-A264-EE27F2C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4FF-64CD-417B-8BFF-44AFDADF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3F0-6FB1-4AE5-9BD6-5B9CA095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447-2E76-4D46-8241-7C0092E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AF0-054F-4684-A667-385ECEB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81B-4E0C-4A84-99E8-3FE24007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041-4F32-4BD9-8759-F1C5871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E3B-00DE-4730-A337-F0EB315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D12-CEDC-46DE-AC4F-485DE6A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5778-6A5F-47B1-BE0F-3CD32B744C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