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83561"/>
        <c:axId val="21119097"/>
      </c:barChart>
      <c:catAx>
        <c:axId val="25583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19097"/>
        <c:crosses val="autoZero"/>
        <c:auto val="1"/>
        <c:lblAlgn val="ctr"/>
        <c:lblOffset val="100"/>
        <c:noMultiLvlLbl val="0"/>
      </c:catAx>
      <c:valAx>
        <c:axId val="21119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83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E6A-7ACF-4E61-8373-A729835A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4AC-B8AB-46AA-9E7D-C54B6E4D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8C0-8CA7-4099-B9DB-6E98F94E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99F-AB95-4B07-8CA5-1C158AAD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EA8-A640-44A1-9385-EFA1333C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66C-3802-4786-89FD-6093CB4C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87C-1ABC-4087-B53E-9EA5617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405-6903-4977-958E-33B218DE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678-A27F-434C-A5D5-3D945C69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8E2-53A8-40DF-9157-B18F1442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15E-4D06-489B-B8C3-F9CA6F84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DD5-A8A2-4B15-9766-C64547C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84204-A546-4578-8B63-F3A0DDDEAA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