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19682"/>
        <c:axId val="35375219"/>
      </c:barChart>
      <c:catAx>
        <c:axId val="39819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75219"/>
        <c:crosses val="autoZero"/>
        <c:auto val="1"/>
        <c:lblAlgn val="ctr"/>
        <c:lblOffset val="100"/>
        <c:noMultiLvlLbl val="0"/>
      </c:catAx>
      <c:valAx>
        <c:axId val="35375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19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E7B-34AF-417F-B5AB-C66C062B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38C-622B-4681-96E2-FF96195C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73D-514E-463B-A401-2F9875E9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98C-910D-4398-A7E0-289ADD07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DC1-04BB-4D09-AE2A-33A21D6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A9D-4BA7-4E67-8623-E9E27B55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F31-2DE5-44F3-856F-7B1F6A38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FB9-CA0D-47A4-A686-50A67375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220-F551-4A89-B402-7D35602D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734-2B63-46D5-9FDA-16B76E9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02B-4027-4A51-AA71-304D0D7F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758-40DF-4C9F-B98F-9F18DA66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23289-1BFC-4D41-8B7F-59EDF7F95D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