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826920"/>
        <c:axId val="8870813"/>
      </c:barChart>
      <c:catAx>
        <c:axId val="238269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70813"/>
        <c:crosses val="autoZero"/>
        <c:auto val="1"/>
        <c:lblAlgn val="ctr"/>
        <c:lblOffset val="100"/>
        <c:noMultiLvlLbl val="0"/>
      </c:catAx>
      <c:valAx>
        <c:axId val="88708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8269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B759-4832-42D3-BAAC-2BA5EBC7A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7C43-3B45-4D6C-BAD4-81EFD50C5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0844-55BC-472A-9CFC-D13D1C584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8738-B927-4CCC-871F-EEB32987B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86E4-436D-4F7E-AA1C-739F955C8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4863-3B1E-40AE-8B49-FAC66457C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1945-48C1-4466-B1A1-79013F633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459D-362B-478E-82A5-B2C40C1B9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4EC0-051F-4AEA-8933-BC840AC41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D990-1298-4570-BC0C-135031F0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BB40-3E99-4223-86A9-172058F1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32BA-F01A-4D69-AE92-8B70B3FF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666B85-D2F8-47A5-ADBD-63CDFF00EE1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