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51996"/>
        <c:axId val="21824270"/>
      </c:barChart>
      <c:catAx>
        <c:axId val="64751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24270"/>
        <c:crosses val="autoZero"/>
        <c:auto val="1"/>
        <c:lblAlgn val="ctr"/>
        <c:lblOffset val="100"/>
        <c:noMultiLvlLbl val="0"/>
      </c:catAx>
      <c:valAx>
        <c:axId val="21824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51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44C-AF9B-441D-8E48-72D3A98F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3BB0-E91C-49A7-8214-522FEB76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A9F6-C5D3-47AF-AF56-F8328AD6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0687-F2FC-40B1-B74A-5013ADD0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F0DE-CE6E-48E8-A9C5-F21CF03F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A0A-B56E-4DB9-A423-8C337ACC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BF3B-1DE6-4AE4-B30D-FAEA3314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CC2-C3EA-48AB-8A02-FA24EA72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AD24-D71B-469C-BFFF-69AB4A48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A4CB-C45B-460D-BBEB-ED530BB5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53B-88D6-4AD4-B34A-182F0060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9FAE-8F7D-4108-8784-7AE2C190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5A302-770E-4599-8AF4-1F58D932CE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