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07006"/>
        <c:axId val="41183693"/>
      </c:barChart>
      <c:catAx>
        <c:axId val="74507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83693"/>
        <c:crosses val="autoZero"/>
        <c:auto val="1"/>
        <c:lblAlgn val="ctr"/>
        <c:lblOffset val="100"/>
        <c:noMultiLvlLbl val="0"/>
      </c:catAx>
      <c:valAx>
        <c:axId val="41183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07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B0A7-1FD3-4B89-9805-8BC97D8D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C28-D895-49D1-BB53-C52146AA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D137-1FE0-4516-A4C8-DD60131F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567-FE52-4229-A0E3-1DF3D132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6B9-E72A-4363-87B8-1347F203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C86-92AD-443F-96B3-60CD0B2F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2F6-C5D8-49BB-BB56-F9EA009D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BF2-0CBA-49E2-9FAB-8980ADA9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A314-E30F-4DEA-A7EA-7563124F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3A1-6430-41B1-AE2D-EB7C4549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72F-D420-4ADC-A54F-77349513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3A6-008A-4ED0-A9E8-BDE61C0A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A9B57-5B37-4A14-9BEC-E0D18E1B58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