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53642"/>
        <c:axId val="89119924"/>
      </c:barChart>
      <c:catAx>
        <c:axId val="90053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19924"/>
        <c:crosses val="autoZero"/>
        <c:auto val="1"/>
        <c:lblAlgn val="ctr"/>
        <c:lblOffset val="100"/>
        <c:noMultiLvlLbl val="0"/>
      </c:catAx>
      <c:valAx>
        <c:axId val="89119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53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98B-92ED-42A9-9456-4313767E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4B6-C31B-4265-BEC9-C747C9D3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986-03DF-4D31-8AB4-C1909EB2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E9E-DBD9-4909-A3FA-4FF7C056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39D-A58D-4986-8076-81F6E660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14D-543C-4070-A53A-28AF36B2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BC1-D06E-4D32-B0E6-EDB2F7E8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A64-4D26-4416-B655-2FCA4F5E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70E-6D9D-43FD-9D2D-2F69792C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540-C843-46D3-8C32-27C4BA43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C5E-697F-41DE-9C13-4061F83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03F-2EBA-466E-953E-C9C0929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5B6C7-755F-4FA5-8317-6E771523CB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