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642519"/>
        <c:axId val="95829659"/>
      </c:barChart>
      <c:catAx>
        <c:axId val="446425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29659"/>
        <c:crosses val="autoZero"/>
        <c:auto val="1"/>
        <c:lblAlgn val="ctr"/>
        <c:lblOffset val="100"/>
        <c:noMultiLvlLbl val="0"/>
      </c:catAx>
      <c:valAx>
        <c:axId val="958296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425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88BB-C7FE-4FDA-A83C-C338E3AD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3FFA-4303-4E70-B640-F23045A7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233F-A7C0-4729-9D96-5A4ABCE4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F243-225A-42C3-B6F2-F47FFE8C7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EA7F-4F22-4A52-BFF7-711B6098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3688-FBEB-498B-A89B-DD01C7CD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DE06-74E0-4018-862A-472C4860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E7B3-5459-4F21-8B8A-57459329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7C42-A082-4A9C-8EB5-037405CE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4667-32E6-42D3-A8DB-9BE91CD1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A287-EB9E-4A28-8313-D826254C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F5F6-AA72-46F9-8165-80C1AF3B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75D1E-C2CD-4D87-A5E7-DDF754E5E9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