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55340"/>
        <c:axId val="27286705"/>
      </c:barChart>
      <c:catAx>
        <c:axId val="97155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86705"/>
        <c:crosses val="autoZero"/>
        <c:auto val="1"/>
        <c:lblAlgn val="ctr"/>
        <c:lblOffset val="100"/>
        <c:noMultiLvlLbl val="0"/>
      </c:catAx>
      <c:valAx>
        <c:axId val="27286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55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9EA-BA5C-4392-9DC7-B00A7E69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C63-ED54-4A38-AD31-0F476C2C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484-8BBA-41D1-94DA-72F457E0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06B-B564-49C2-B592-0477436A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476-FF2C-439C-9160-6EB3287C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C7A-7395-433E-BBE5-8CCF2B95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41C-B188-445B-83F0-0176E942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EA8-3310-467F-BD25-85FF64AE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DAD-E35E-424D-A629-E3B6A57A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1A0-7E47-4CFF-8E59-B4C90D6B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23B-7D7D-4557-880F-E6FB03F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AB1-FC17-4FA3-802D-0E6908B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119C9-95A3-4CC4-B570-78D3E6537F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