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29097"/>
        <c:axId val="33667584"/>
      </c:barChart>
      <c:catAx>
        <c:axId val="21629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67584"/>
        <c:crosses val="autoZero"/>
        <c:auto val="1"/>
        <c:lblAlgn val="ctr"/>
        <c:lblOffset val="100"/>
        <c:noMultiLvlLbl val="0"/>
      </c:catAx>
      <c:valAx>
        <c:axId val="33667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29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858-1DD5-4F15-ADC2-8329FE3D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773-6A5A-4475-A194-921FADE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D6D-78E0-49D5-88DB-06DEDF60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FE4-B38A-43D3-8B90-DADC0004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D877-F538-4D49-BBC9-D0D9C516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CCA-CC3B-419F-955A-F38857A0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18E-A34B-44A9-94E5-3E1142D0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753-891F-40F6-80CB-6A207499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150-464A-4D94-B0FC-6416C2A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144-AF28-4498-81AD-591A0DC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1BE-C8B0-494C-B5B8-04F8249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C51-5069-4AC8-9876-00D2AC3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30EF-1987-44BB-9300-31E32B098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