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581911"/>
        <c:axId val="96255474"/>
      </c:barChart>
      <c:catAx>
        <c:axId val="165819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55474"/>
        <c:crosses val="autoZero"/>
        <c:auto val="1"/>
        <c:lblAlgn val="ctr"/>
        <c:lblOffset val="100"/>
        <c:noMultiLvlLbl val="0"/>
      </c:catAx>
      <c:valAx>
        <c:axId val="962554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5819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89B4-05C5-469B-9DD2-6CE890320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EAEB-B09F-4D7E-A670-189CE297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B07A-6970-4A1E-A691-AEA71BEF0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6B99-1991-4723-AC21-03B5355DF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7555-F8A0-440A-827A-BDBB1970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C42F-213C-4277-8B6C-6D6BEFAF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17E4-80E7-42CE-8EEA-FDC2C960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4F64-A027-4DE4-8303-586F0787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3760-A30C-4063-B6BB-F32FE980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221C-C169-4FDB-BCD8-D9C46644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95CD-677C-43F3-8416-EB84B5AD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C107-3999-4775-820B-C11C9272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B3A734-0E41-48EC-A9AD-D408B4329F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